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335-DA08-4299-A2D6-36260CFA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7E6-30BA-4B48-AA92-C9E4DD30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E20-AC2D-435E-9A5D-03DE176C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7FB-796F-41F5-867C-862950ED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ED7-5E14-4131-AB6C-01AA18BB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C95-3C54-4A66-96C1-01B5B059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22F-D06D-47F9-8F19-47A63D90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DE4C-43D8-4E7D-BB9A-9B8C8D45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A4B-1FC8-48A2-AD3D-B13ED562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F98-2F45-42C5-9042-5852679B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21E-92E8-4EC1-9282-8901E182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28F-AEE8-4866-A75D-3924A208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45EB-E492-4BE2-947C-D6B7CCE78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30 year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astating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Killed- “Plague Like” ¼ to 1/3 dead—some areas…hig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s tend to be Germanic and Boh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mid 17C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for future discussion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de followed by the Sun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ugal returns as separat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itan Uprising and a whole lot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ine HRE-&gt; Itchings of Prussia and Brandenburg-&gt; A Power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sterdam- Economic Power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- Political Power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 - Emerging from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World Col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yers (Every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 England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E (Bohemia)--that’s where it 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sburgs- Catholic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 League of Germa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/Portugal- United under Philip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enestration- Pha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E Seven El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Catholic, Three Protestant (2 of whom were Calvinists) Peace of Aug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duke Ferdinand (Habsburg) as King of Bohemia (Habsburg’s gained Hungary and Bohemia in 16C) limits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liation-&gt;Protestants toss out Catholic leaders from window-&gt;no one di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hemians name their own King (Frederi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national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dinand gets Philip IV (Spain) help—remember their both Habsurgs and both ardent Catholic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enstein- lapsed Protestant helps Ferdinand defeat Bohemians - White Mountain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s Crush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ot very great Dane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 II 1625-1629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seatic League in decline- focus is more south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 IV takes the mantle for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a territory w/in 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mark’s little help- a troop of English and Catholic France and Dutch provides some $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holic France helping Protestant Danes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enstein defeats Christian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and lost to HRE and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wede Victory! Phase III 1630-16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tav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Power, expand power and defend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nd/Lithuania falling apart- power vac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helped defra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’s gain-&gt;Gustav II dies (Battle of Lutzen, near Leipzi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reaty-&gt;Protestant gains, Swedish g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 its France’s turn (1635-1648)- Phase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allied w/Dutch and Swe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ch??? New comer on th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des and French gain mor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becomes more political less relig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es switch sides, fight and lose to Sw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eror Dies, Richelieu Dies and s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nal Mazarin (France) begins movement towards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ey where’s England in all this stuff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den Gets Invol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C Power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nd/Lithuania on de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of the Bal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tav I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w expansion into mainland Europe- Prussian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s in the Battle of Lu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des gain substantial swathes of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y of Westphal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What’s the Big D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- w/all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lomacy previously bi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vereig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Toleration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E lost- still in existence but w/limited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ndenburg (who?) g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gains Alsace- root for lots of figh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 also gains- Baltic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- In significant dec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ch gain independence (took 80 YRS!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C. Church lost 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7:52:34Z</dcterms:created>
  <dc:creator>Steve Balazs</dc:creator>
  <dc:description/>
  <dc:language>en-US</dc:language>
  <cp:lastModifiedBy>Local User</cp:lastModifiedBy>
  <dcterms:modified xsi:type="dcterms:W3CDTF">2011-10-03T11:28:56Z</dcterms:modified>
  <cp:revision>13</cp:revision>
  <dc:subject/>
  <dc:title>The 30 year War</dc:title>
</cp:coreProperties>
</file>